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6CD-C15A-43B2-94BB-1441BFB7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93B9-60E4-4E38-BDFC-F48A504E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0F1-C99D-4F4A-9494-B22CDAE9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405-8169-4315-81A6-576CDB03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A5BF-17DF-46A6-8888-87AEAFFD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F96B-3D0D-4B25-A0C5-3D83CC99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CE4-02D3-4D4F-B9DC-730A2BF8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B43F-AA24-4532-B29D-8A533240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2A06-A64B-44B0-A084-953D34DF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8963-7312-4702-ADE6-E43C9937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4FAA-8881-468E-9F9A-DA9FBA1F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A21-EF4F-4B38-9569-3404BC9E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9E9B-C2E6-4A87-994F-286A0853984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D05296_"/>
          <p:cNvPicPr/>
          <p:nvPr/>
        </p:nvPicPr>
        <p:blipFill>
          <a:blip r:embed="rId1"/>
          <a:stretch/>
        </p:blipFill>
        <p:spPr>
          <a:xfrm>
            <a:off x="363600" y="3282840"/>
            <a:ext cx="3522600" cy="327024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5003640" y="5994360"/>
            <a:ext cx="3591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Fís. Abraham Vilchis Uribe 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826920" y="692280"/>
            <a:ext cx="605340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ínimos Cuadrados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4684680" y="2579760"/>
            <a:ext cx="3848040" cy="27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Método objetivo pa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encontr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La ecuación de u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Modelo Line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GRÁFIC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230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800" spc="-1" strike="noStrike">
                <a:solidFill>
                  <a:srgbClr val="333300"/>
                </a:solidFill>
                <a:latin typeface="Times New Roman"/>
              </a:rPr>
              <a:t>RAZA-MOS LA </a:t>
            </a:r>
            <a:r>
              <a:rPr b="1" i="1" lang="es-MX" sz="2800" spc="-1" strike="noStrike">
                <a:solidFill>
                  <a:srgbClr val="cc0000"/>
                </a:solidFill>
                <a:latin typeface="Times New Roman"/>
              </a:rPr>
              <a:t>MEJOR RECTA</a:t>
            </a:r>
            <a:r>
              <a:rPr b="0" lang="es-MX" sz="2800" spc="-1" strike="noStrike">
                <a:solidFill>
                  <a:srgbClr val="333300"/>
                </a:solidFill>
                <a:latin typeface="Times New Roman"/>
              </a:rPr>
              <a:t> DE TAL MANERA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4"/>
          <p:cNvSpPr/>
          <p:nvPr/>
        </p:nvSpPr>
        <p:spPr>
          <a:xfrm>
            <a:off x="3200400" y="198108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5"/>
          <p:cNvSpPr/>
          <p:nvPr/>
        </p:nvSpPr>
        <p:spPr>
          <a:xfrm>
            <a:off x="3048120" y="617220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971800" y="61722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4267080" y="44956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8"/>
          <p:cNvSpPr/>
          <p:nvPr/>
        </p:nvSpPr>
        <p:spPr>
          <a:xfrm flipV="1">
            <a:off x="3124080" y="3200040"/>
            <a:ext cx="4876920" cy="2438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352680" y="50292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038480" y="5257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4876920" y="4800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5105520" y="42670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5638680" y="4343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58672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6477120" y="39625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6705720" y="34290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7315200" y="3505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7467480" y="3048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8153280" y="62024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2971800" y="19051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1"/>
          <p:cNvSpPr/>
          <p:nvPr/>
        </p:nvSpPr>
        <p:spPr>
          <a:xfrm>
            <a:off x="777240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42"/>
          <p:cNvSpPr/>
          <p:nvPr/>
        </p:nvSpPr>
        <p:spPr>
          <a:xfrm>
            <a:off x="7939080" y="3005280"/>
            <a:ext cx="291960" cy="203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GRÁFIC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90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RITERIO: 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</a:rPr>
              <a:t>La distancia, 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δ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</a:rPr>
              <a:t>y, del punto experimental a la “mejor recta”, L, es mín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3200400" y="198108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3048120" y="617220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971800" y="61722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267080" y="44956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"/>
          <p:cNvSpPr/>
          <p:nvPr/>
        </p:nvSpPr>
        <p:spPr>
          <a:xfrm flipV="1">
            <a:off x="3124080" y="3200040"/>
            <a:ext cx="4876920" cy="2438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352680" y="50292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038480" y="5257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876920" y="4800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5105520" y="42670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5638680" y="4343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58672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6477120" y="39625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6705720" y="34290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7315200" y="3505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7467480" y="3048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4419720" y="4648320"/>
            <a:ext cx="0" cy="3808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8153280" y="62024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2971800" y="19051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4419720" y="41911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23"/>
          <p:cNvSpPr/>
          <p:nvPr/>
        </p:nvSpPr>
        <p:spPr>
          <a:xfrm>
            <a:off x="4441680" y="4419720"/>
            <a:ext cx="206640" cy="414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0"/>
          <p:cNvSpPr/>
          <p:nvPr/>
        </p:nvSpPr>
        <p:spPr>
          <a:xfrm>
            <a:off x="4724280" y="4495680"/>
            <a:ext cx="39625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y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y(x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1"/>
          <p:cNvSpPr/>
          <p:nvPr/>
        </p:nvSpPr>
        <p:spPr>
          <a:xfrm>
            <a:off x="777240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42"/>
          <p:cNvSpPr/>
          <p:nvPr/>
        </p:nvSpPr>
        <p:spPr>
          <a:xfrm>
            <a:off x="7939080" y="3005280"/>
            <a:ext cx="291960" cy="203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GRÁFIC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90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RITERIO: 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</a:rPr>
              <a:t>La distancia, 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δ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</a:rPr>
              <a:t>y, del punto experimental a la “mejor recta”, L, es mín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Times New Roman"/>
              </a:rPr>
              <a:t>Para todos los pu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3200400" y="198108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3048120" y="617220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971800" y="61722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267080" y="44956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 flipV="1">
            <a:off x="3124080" y="3200040"/>
            <a:ext cx="4876920" cy="2438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352680" y="50292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038480" y="5257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876920" y="4800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5105520" y="42670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5638680" y="4343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58672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6477120" y="39625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6705720" y="34290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7315200" y="3505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7467480" y="3048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9"/>
          <p:cNvSpPr/>
          <p:nvPr/>
        </p:nvSpPr>
        <p:spPr>
          <a:xfrm>
            <a:off x="4419720" y="4648320"/>
            <a:ext cx="0" cy="3808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8153280" y="62024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2971800" y="19051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4419720" y="41911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23"/>
          <p:cNvSpPr/>
          <p:nvPr/>
        </p:nvSpPr>
        <p:spPr>
          <a:xfrm>
            <a:off x="4441680" y="4419720"/>
            <a:ext cx="206640" cy="414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3505320" y="5181480"/>
            <a:ext cx="0" cy="2286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5"/>
          <p:cNvSpPr/>
          <p:nvPr/>
        </p:nvSpPr>
        <p:spPr>
          <a:xfrm>
            <a:off x="4191120" y="5105520"/>
            <a:ext cx="0" cy="3045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5029200" y="4648320"/>
            <a:ext cx="0" cy="3045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5257800" y="4419720"/>
            <a:ext cx="0" cy="152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5791320" y="4267080"/>
            <a:ext cx="0" cy="2286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6019920" y="3962520"/>
            <a:ext cx="0" cy="2286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0"/>
          <p:cNvSpPr/>
          <p:nvPr/>
        </p:nvSpPr>
        <p:spPr>
          <a:xfrm>
            <a:off x="6629400" y="3886200"/>
            <a:ext cx="0" cy="2286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6858000" y="3581280"/>
            <a:ext cx="0" cy="1526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7467480" y="3429000"/>
            <a:ext cx="0" cy="2286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33"/>
          <p:cNvSpPr/>
          <p:nvPr/>
        </p:nvSpPr>
        <p:spPr>
          <a:xfrm>
            <a:off x="7620120" y="3200400"/>
            <a:ext cx="0" cy="152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4"/>
          <p:cNvSpPr/>
          <p:nvPr/>
        </p:nvSpPr>
        <p:spPr>
          <a:xfrm>
            <a:off x="4419720" y="4648320"/>
            <a:ext cx="0" cy="1523880"/>
          </a:xfrm>
          <a:prstGeom prst="line">
            <a:avLst/>
          </a:prstGeom>
          <a:ln w="12600">
            <a:solidFill>
              <a:srgbClr val="ff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5"/>
          <p:cNvSpPr/>
          <p:nvPr/>
        </p:nvSpPr>
        <p:spPr>
          <a:xfrm flipH="1">
            <a:off x="3200040" y="4648320"/>
            <a:ext cx="1219320" cy="0"/>
          </a:xfrm>
          <a:prstGeom prst="line">
            <a:avLst/>
          </a:prstGeom>
          <a:ln w="12600">
            <a:solidFill>
              <a:srgbClr val="ff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36"/>
          <p:cNvSpPr/>
          <p:nvPr/>
        </p:nvSpPr>
        <p:spPr>
          <a:xfrm flipH="1">
            <a:off x="3200040" y="4952880"/>
            <a:ext cx="1219320" cy="0"/>
          </a:xfrm>
          <a:prstGeom prst="line">
            <a:avLst/>
          </a:prstGeom>
          <a:ln w="12600">
            <a:solidFill>
              <a:srgbClr val="ff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4267080" y="61722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MX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8"/>
          <p:cNvSpPr/>
          <p:nvPr/>
        </p:nvSpPr>
        <p:spPr>
          <a:xfrm>
            <a:off x="2819520" y="44956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MX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9"/>
          <p:cNvSpPr/>
          <p:nvPr/>
        </p:nvSpPr>
        <p:spPr>
          <a:xfrm>
            <a:off x="2666880" y="4830840"/>
            <a:ext cx="60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x</a:t>
            </a:r>
            <a:r>
              <a:rPr b="0" lang="es-MX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0"/>
          <p:cNvSpPr/>
          <p:nvPr/>
        </p:nvSpPr>
        <p:spPr>
          <a:xfrm>
            <a:off x="4724280" y="4495680"/>
            <a:ext cx="39625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y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y(x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δ</a:t>
            </a:r>
            <a:r>
              <a:rPr b="0" lang="es-MX" sz="24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y = y</a:t>
            </a:r>
            <a:r>
              <a:rPr b="0" lang="es-MX" sz="2400" spc="-1" strike="noStrike" baseline="-25000">
                <a:solidFill>
                  <a:srgbClr val="ff33ff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 – (mx</a:t>
            </a:r>
            <a:r>
              <a:rPr b="0" lang="es-MX" sz="2400" spc="-1" strike="noStrike" baseline="-25000">
                <a:solidFill>
                  <a:srgbClr val="ff33ff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 +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1"/>
          <p:cNvSpPr/>
          <p:nvPr/>
        </p:nvSpPr>
        <p:spPr>
          <a:xfrm>
            <a:off x="777240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42"/>
          <p:cNvSpPr/>
          <p:nvPr/>
        </p:nvSpPr>
        <p:spPr>
          <a:xfrm>
            <a:off x="7939080" y="3005280"/>
            <a:ext cx="291960" cy="203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GRÁFIC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90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RITERIO: 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</a:rPr>
              <a:t>La distancia, 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δ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</a:rPr>
              <a:t>y, del punto experimental a la “mejor recta”, L, es mín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Times New Roman"/>
              </a:rPr>
              <a:t>Esta distancia se tomará al cuadr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3200400" y="198108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3048120" y="617220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971800" y="61722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267080" y="44956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 flipV="1">
            <a:off x="3124080" y="3200040"/>
            <a:ext cx="4876920" cy="2438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352680" y="50292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4038480" y="5257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4876920" y="4800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5105520" y="42670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5638680" y="4343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58672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6477120" y="39625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6705720" y="34290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7315200" y="3505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7467480" y="3048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9"/>
          <p:cNvSpPr/>
          <p:nvPr/>
        </p:nvSpPr>
        <p:spPr>
          <a:xfrm>
            <a:off x="4419720" y="4648320"/>
            <a:ext cx="0" cy="3808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8153280" y="62024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2971800" y="19051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4419720" y="41911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23"/>
          <p:cNvSpPr/>
          <p:nvPr/>
        </p:nvSpPr>
        <p:spPr>
          <a:xfrm>
            <a:off x="4441680" y="4419720"/>
            <a:ext cx="206640" cy="414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4"/>
          <p:cNvSpPr/>
          <p:nvPr/>
        </p:nvSpPr>
        <p:spPr>
          <a:xfrm>
            <a:off x="3505320" y="5181480"/>
            <a:ext cx="0" cy="2286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25"/>
          <p:cNvSpPr/>
          <p:nvPr/>
        </p:nvSpPr>
        <p:spPr>
          <a:xfrm>
            <a:off x="4191120" y="5105520"/>
            <a:ext cx="0" cy="3045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26"/>
          <p:cNvSpPr/>
          <p:nvPr/>
        </p:nvSpPr>
        <p:spPr>
          <a:xfrm>
            <a:off x="5029200" y="4648320"/>
            <a:ext cx="0" cy="3045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7"/>
          <p:cNvSpPr/>
          <p:nvPr/>
        </p:nvSpPr>
        <p:spPr>
          <a:xfrm>
            <a:off x="5257800" y="4419720"/>
            <a:ext cx="0" cy="152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8"/>
          <p:cNvSpPr/>
          <p:nvPr/>
        </p:nvSpPr>
        <p:spPr>
          <a:xfrm>
            <a:off x="5791320" y="4267080"/>
            <a:ext cx="0" cy="2286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6019920" y="3962520"/>
            <a:ext cx="0" cy="2286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0"/>
          <p:cNvSpPr/>
          <p:nvPr/>
        </p:nvSpPr>
        <p:spPr>
          <a:xfrm>
            <a:off x="6629400" y="3886200"/>
            <a:ext cx="0" cy="2286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1"/>
          <p:cNvSpPr/>
          <p:nvPr/>
        </p:nvSpPr>
        <p:spPr>
          <a:xfrm>
            <a:off x="6858000" y="3581280"/>
            <a:ext cx="0" cy="1526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2"/>
          <p:cNvSpPr/>
          <p:nvPr/>
        </p:nvSpPr>
        <p:spPr>
          <a:xfrm>
            <a:off x="7467480" y="3429000"/>
            <a:ext cx="0" cy="2286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3"/>
          <p:cNvSpPr/>
          <p:nvPr/>
        </p:nvSpPr>
        <p:spPr>
          <a:xfrm>
            <a:off x="7620120" y="3200400"/>
            <a:ext cx="0" cy="152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34"/>
          <p:cNvSpPr/>
          <p:nvPr/>
        </p:nvSpPr>
        <p:spPr>
          <a:xfrm>
            <a:off x="4419720" y="4648320"/>
            <a:ext cx="0" cy="1523880"/>
          </a:xfrm>
          <a:prstGeom prst="line">
            <a:avLst/>
          </a:prstGeom>
          <a:ln w="12600">
            <a:solidFill>
              <a:srgbClr val="ff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5"/>
          <p:cNvSpPr/>
          <p:nvPr/>
        </p:nvSpPr>
        <p:spPr>
          <a:xfrm flipH="1">
            <a:off x="3200040" y="4648320"/>
            <a:ext cx="1219320" cy="0"/>
          </a:xfrm>
          <a:prstGeom prst="line">
            <a:avLst/>
          </a:prstGeom>
          <a:ln w="12600">
            <a:solidFill>
              <a:srgbClr val="ff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36"/>
          <p:cNvSpPr/>
          <p:nvPr/>
        </p:nvSpPr>
        <p:spPr>
          <a:xfrm flipH="1">
            <a:off x="3200040" y="4952880"/>
            <a:ext cx="1219320" cy="0"/>
          </a:xfrm>
          <a:prstGeom prst="line">
            <a:avLst/>
          </a:prstGeom>
          <a:ln w="12600">
            <a:solidFill>
              <a:srgbClr val="ff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7"/>
          <p:cNvSpPr/>
          <p:nvPr/>
        </p:nvSpPr>
        <p:spPr>
          <a:xfrm>
            <a:off x="4267080" y="61722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MX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8"/>
          <p:cNvSpPr/>
          <p:nvPr/>
        </p:nvSpPr>
        <p:spPr>
          <a:xfrm>
            <a:off x="2819520" y="44956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MX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9"/>
          <p:cNvSpPr/>
          <p:nvPr/>
        </p:nvSpPr>
        <p:spPr>
          <a:xfrm>
            <a:off x="2666880" y="4830840"/>
            <a:ext cx="60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x</a:t>
            </a:r>
            <a:r>
              <a:rPr b="0" lang="es-MX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0"/>
          <p:cNvSpPr/>
          <p:nvPr/>
        </p:nvSpPr>
        <p:spPr>
          <a:xfrm>
            <a:off x="4724280" y="4495680"/>
            <a:ext cx="396252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y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y(x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δ</a:t>
            </a:r>
            <a:r>
              <a:rPr b="0" lang="es-MX" sz="24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y = y</a:t>
            </a:r>
            <a:r>
              <a:rPr b="0" lang="es-MX" sz="2400" spc="-1" strike="noStrike" baseline="-25000">
                <a:solidFill>
                  <a:srgbClr val="ff33ff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 – (mx</a:t>
            </a:r>
            <a:r>
              <a:rPr b="0" lang="es-MX" sz="2400" spc="-1" strike="noStrike" baseline="-25000">
                <a:solidFill>
                  <a:srgbClr val="ff33ff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 +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δ</a:t>
            </a:r>
            <a:r>
              <a:rPr b="0" lang="es-MX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y</a:t>
            </a:r>
            <a:r>
              <a:rPr b="0" lang="es-MX" sz="2400" spc="-1" strike="noStrike" baseline="30000">
                <a:solidFill>
                  <a:srgbClr val="333300"/>
                </a:solidFill>
                <a:latin typeface="Times New Roman"/>
                <a:ea typeface="Times New Roman"/>
              </a:rPr>
              <a:t>2</a:t>
            </a:r>
            <a:r>
              <a:rPr b="0" lang="es-MX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=[ y</a:t>
            </a:r>
            <a:r>
              <a:rPr b="0" lang="es-MX" sz="2400" spc="-1" strike="noStrike" baseline="-25000">
                <a:solidFill>
                  <a:srgbClr val="333300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– (mx</a:t>
            </a:r>
            <a:r>
              <a:rPr b="0" lang="es-MX" sz="2400" spc="-1" strike="noStrike" baseline="-25000">
                <a:solidFill>
                  <a:srgbClr val="333300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+ b)]</a:t>
            </a:r>
            <a:r>
              <a:rPr b="0" lang="es-MX" sz="2400" spc="-1" strike="noStrike" baseline="30000">
                <a:solidFill>
                  <a:srgbClr val="333300"/>
                </a:solidFill>
                <a:latin typeface="Times New Roman"/>
                <a:ea typeface="Times New Roman"/>
              </a:rPr>
              <a:t>2</a:t>
            </a:r>
            <a:r>
              <a:rPr b="0" lang="es-MX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... Ec.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1"/>
          <p:cNvSpPr/>
          <p:nvPr/>
        </p:nvSpPr>
        <p:spPr>
          <a:xfrm>
            <a:off x="777240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42"/>
          <p:cNvSpPr/>
          <p:nvPr/>
        </p:nvSpPr>
        <p:spPr>
          <a:xfrm>
            <a:off x="7939080" y="3005280"/>
            <a:ext cx="291960" cy="203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ALCULANDO LOS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VALORES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 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pendiente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m,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y de la ordenada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ALCULANDO LOS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VALORES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 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pendiente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m,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y de la ordenada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533520" y="1676520"/>
            <a:ext cx="7848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efectuar la minimización de la ecuación uno respecto a todos los puntos experimentales bajo el criterio de los mínimos cuadrad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ALCULANDO LOS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VALORES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 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pendiente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m,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y de la ordenada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533520" y="1676520"/>
            <a:ext cx="78483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efectuar la minimización de la ecuación uno respecto a todos los puntos experimentales bajo el criterio de los mínimos cuadrados, el procedimiento nos arroja </a:t>
            </a:r>
            <a:r>
              <a:rPr b="1" lang="es-MX" sz="2000" spc="-1" strike="noStrike">
                <a:solidFill>
                  <a:srgbClr val="cc0000"/>
                </a:solidFill>
                <a:latin typeface="Times New Roman"/>
              </a:rPr>
              <a:t>el valor de la 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5"/>
              <p:cNvSpPr txBox="1"/>
              <p:nvPr/>
            </p:nvSpPr>
            <p:spPr>
              <a:xfrm>
                <a:off x="685800" y="3276720"/>
                <a:ext cx="3276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ALCULANDO LOS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VALORES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 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pendiente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m,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y de la ordenada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533520" y="1676520"/>
            <a:ext cx="78483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efectuar la minimización de la ecuación uno respecto a todos los puntos experimentales bajo el criterio de los mínimos cuadrados, el procedimiento nos arroja </a:t>
            </a:r>
            <a:r>
              <a:rPr b="1" lang="es-MX" sz="2000" spc="-1" strike="noStrike">
                <a:solidFill>
                  <a:srgbClr val="cc0000"/>
                </a:solidFill>
                <a:latin typeface="Times New Roman"/>
              </a:rPr>
              <a:t>el valor de la pendiente con su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5"/>
              <p:cNvSpPr txBox="1"/>
              <p:nvPr/>
            </p:nvSpPr>
            <p:spPr>
              <a:xfrm>
                <a:off x="685800" y="3276720"/>
                <a:ext cx="3276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6"/>
              <p:cNvSpPr txBox="1"/>
              <p:nvPr/>
            </p:nvSpPr>
            <p:spPr>
              <a:xfrm>
                <a:off x="4419720" y="3276720"/>
                <a:ext cx="2971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8"/>
              <p:cNvSpPr txBox="1"/>
              <p:nvPr/>
            </p:nvSpPr>
            <p:spPr>
              <a:xfrm>
                <a:off x="4800600" y="5638680"/>
                <a:ext cx="23623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m</m:t>
                                                </m:r>
                                              </m:e>
                                            </m:acc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b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-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ALCULANDO LOS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VALORES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 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pendiente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m,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y de la ordenada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533520" y="1676520"/>
            <a:ext cx="7848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efectuar la minimización de la ecuación uno respecto a todos los puntos experimentales bajo el criterio de los mínimos cuadrados, el procedimiento nos arroja </a:t>
            </a:r>
            <a:r>
              <a:rPr b="0" lang="es-MX" sz="2000" spc="-1" strike="noStrike">
                <a:solidFill>
                  <a:srgbClr val="cc0000"/>
                </a:solidFill>
                <a:latin typeface="Times New Roman"/>
              </a:rPr>
              <a:t>el valor de la pendiente con su error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, y de la </a:t>
            </a:r>
            <a:r>
              <a:rPr b="1" lang="es-MX" sz="2000" spc="-1" strike="noStrike">
                <a:solidFill>
                  <a:srgbClr val="cc0000"/>
                </a:solidFill>
                <a:latin typeface="Times New Roman"/>
              </a:rPr>
              <a:t>ordenada al ori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685800" y="4495680"/>
                <a:ext cx="33526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5"/>
              <p:cNvSpPr txBox="1"/>
              <p:nvPr/>
            </p:nvSpPr>
            <p:spPr>
              <a:xfrm>
                <a:off x="685800" y="3276720"/>
                <a:ext cx="3276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6"/>
              <p:cNvSpPr txBox="1"/>
              <p:nvPr/>
            </p:nvSpPr>
            <p:spPr>
              <a:xfrm>
                <a:off x="4419720" y="3276720"/>
                <a:ext cx="2971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8"/>
              <p:cNvSpPr txBox="1"/>
              <p:nvPr/>
            </p:nvSpPr>
            <p:spPr>
              <a:xfrm>
                <a:off x="4800600" y="5638680"/>
                <a:ext cx="23623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m</m:t>
                                                </m:r>
                                              </m:e>
                                            </m:acc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b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-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ALCULANDO LOS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VALORES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 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pendiente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m,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y de la ordenada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533520" y="1676520"/>
            <a:ext cx="7848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efectuar la minimización de la ecuación uno respecto a todos los puntos experimentales bajo el criterio de los mínimos cuadrados, el procedimiento nos arroja </a:t>
            </a:r>
            <a:r>
              <a:rPr b="0" lang="es-MX" sz="2000" spc="-1" strike="noStrike">
                <a:solidFill>
                  <a:srgbClr val="cc0000"/>
                </a:solidFill>
                <a:latin typeface="Times New Roman"/>
              </a:rPr>
              <a:t>el valor de la pendiente con su error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, y de la </a:t>
            </a:r>
            <a:r>
              <a:rPr b="1" lang="es-MX" sz="2000" spc="-1" strike="noStrike">
                <a:solidFill>
                  <a:srgbClr val="cc0000"/>
                </a:solidFill>
                <a:latin typeface="Times New Roman"/>
              </a:rPr>
              <a:t>ordenada al origen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cc0000"/>
                </a:solidFill>
                <a:latin typeface="Times New Roman"/>
              </a:rPr>
              <a:t>con su error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; de la “mejor recta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685800" y="4495680"/>
                <a:ext cx="33526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5"/>
              <p:cNvSpPr txBox="1"/>
              <p:nvPr/>
            </p:nvSpPr>
            <p:spPr>
              <a:xfrm>
                <a:off x="685800" y="3276720"/>
                <a:ext cx="3276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6"/>
              <p:cNvSpPr txBox="1"/>
              <p:nvPr/>
            </p:nvSpPr>
            <p:spPr>
              <a:xfrm>
                <a:off x="4419720" y="3276720"/>
                <a:ext cx="2971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7"/>
              <p:cNvSpPr txBox="1"/>
              <p:nvPr/>
            </p:nvSpPr>
            <p:spPr>
              <a:xfrm>
                <a:off x="4495680" y="4419720"/>
                <a:ext cx="27180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8"/>
              <p:cNvSpPr txBox="1"/>
              <p:nvPr/>
            </p:nvSpPr>
            <p:spPr>
              <a:xfrm>
                <a:off x="4800600" y="5638680"/>
                <a:ext cx="23623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m</m:t>
                                                </m:r>
                                              </m:e>
                                            </m:acc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b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-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Resumen del Método Grá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99ff"/>
                </a:solidFill>
                <a:latin typeface="Times New Roman"/>
              </a:rPr>
              <a:t>Limi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99ff"/>
                </a:solidFill>
                <a:latin typeface="Times New Roman"/>
              </a:rPr>
              <a:t>Es subjetivo, depende de</a:t>
            </a:r>
            <a:r>
              <a:rPr b="0" lang="es-MX" sz="2400" spc="-1" strike="noStrike">
                <a:solidFill>
                  <a:srgbClr val="3399ff"/>
                </a:solidFill>
                <a:latin typeface="Times New Roman"/>
              </a:rPr>
              <a:t> la persona que grafica y de su criterio</a:t>
            </a:r>
            <a:r>
              <a:rPr b="0" lang="es-ES" sz="2400" spc="-1" strike="noStrike">
                <a:solidFill>
                  <a:srgbClr val="3399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99ff"/>
                </a:solidFill>
                <a:latin typeface="Times New Roman"/>
              </a:rPr>
              <a:t>Proporciona</a:t>
            </a:r>
            <a:r>
              <a:rPr b="0" lang="es-ES" sz="2400" spc="-1" strike="noStrike">
                <a:solidFill>
                  <a:srgbClr val="3399ff"/>
                </a:solidFill>
                <a:latin typeface="Times New Roman"/>
              </a:rPr>
              <a:t> un intervalos grande y pesim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99ff"/>
                </a:solidFill>
                <a:latin typeface="Times New Roman"/>
              </a:rPr>
              <a:t>No es reproducible, cada experimentador proporci</a:t>
            </a:r>
            <a:r>
              <a:rPr b="0" lang="es-MX" sz="2400" spc="-1" strike="noStrike">
                <a:solidFill>
                  <a:srgbClr val="3399ff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3399ff"/>
                </a:solidFill>
                <a:latin typeface="Times New Roman"/>
              </a:rPr>
              <a:t>na diferentes </a:t>
            </a:r>
            <a:r>
              <a:rPr b="0" lang="es-MX" sz="2400" spc="-1" strike="noStrike">
                <a:solidFill>
                  <a:srgbClr val="3399ff"/>
                </a:solidFill>
                <a:latin typeface="Times New Roman"/>
              </a:rPr>
              <a:t>aproximaciones para datos ig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24280" y="198072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99"/>
                </a:solidFill>
                <a:latin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99"/>
                </a:solidFill>
                <a:latin typeface="Times New Roman"/>
              </a:rPr>
              <a:t>Es buen estimador cuando se tiene pocos resultados (menos de diez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99"/>
                </a:solidFill>
                <a:latin typeface="Times New Roman"/>
              </a:rPr>
              <a:t>Nos permite decidir si vale la pena efectuar un experimento más preci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99"/>
                </a:solidFill>
                <a:latin typeface="Times New Roman"/>
              </a:rPr>
              <a:t>En caso de no contar con una calculadora o computadora, éste método nos permite efectuar una estimación vál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SCRIBIENDO LA ECUACIÓN DEL MODELO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SCRIBIENDO LA ECUACIÓN DEL MODELO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533520" y="1676520"/>
            <a:ext cx="7848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OBTENER LOS VALORES DE LA </a:t>
            </a:r>
            <a:r>
              <a:rPr b="1" lang="es-MX" sz="2000" spc="-1" strike="noStrike">
                <a:solidFill>
                  <a:srgbClr val="cc0000"/>
                </a:solidFill>
                <a:latin typeface="Times New Roman"/>
              </a:rPr>
              <a:t>PENDIENTE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Y DE LA </a:t>
            </a:r>
            <a:r>
              <a:rPr b="1" lang="es-MX" sz="2000" spc="-1" strike="noStrike">
                <a:solidFill>
                  <a:srgbClr val="cc0000"/>
                </a:solidFill>
                <a:latin typeface="Times New Roman"/>
              </a:rPr>
              <a:t>ORDENADA AL ORIGEN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SCRIBIENDO LA ECUACIÓN DEL MODELO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533520" y="1676520"/>
            <a:ext cx="784836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OBTENER LOS VALORES DE LA PENDIENTE Y DE LA ORDENADA AL ORIGEN, PODEMOS ENTONCES ESCRIBIR LA </a:t>
            </a:r>
            <a:r>
              <a:rPr b="1" lang="es-MX" sz="2000" spc="-1" strike="noStrike">
                <a:solidFill>
                  <a:srgbClr val="9933ff"/>
                </a:solidFill>
                <a:latin typeface="Times New Roman"/>
              </a:rPr>
              <a:t>ECUACIÓN DE LA RECTA EN LA FORMA USUA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SCRIBIENDO LA ECUACIÓN DEL MODELO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533520" y="1676520"/>
            <a:ext cx="784836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OBTENER LOS VALORES DE LA PENDIENTE Y DE LA ORDENADA AL ORIGEN, PODEMOS ENTONCES ESCRIBIR LA ECUACIÓN DE LA RECTA EN LA FORMA USU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s-MX" sz="20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VD =    pendiente   VI  +  ord. al ori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ff3300"/>
                </a:solidFill>
                <a:latin typeface="Times New Roman"/>
              </a:rPr>
              <a:t>y = (m </a:t>
            </a:r>
            <a:r>
              <a:rPr b="1" lang="es-MX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± S</a:t>
            </a:r>
            <a:r>
              <a:rPr b="1" lang="es-MX" sz="2800" spc="-1" strike="noStrike" baseline="-25000">
                <a:solidFill>
                  <a:srgbClr val="ff3300"/>
                </a:solidFill>
                <a:latin typeface="Times New Roman"/>
                <a:ea typeface="Times New Roman"/>
              </a:rPr>
              <a:t>m</a:t>
            </a:r>
            <a:r>
              <a:rPr b="1" lang="es-MX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 x + (b ± S</a:t>
            </a:r>
            <a:r>
              <a:rPr b="1" lang="es-MX" sz="2800" spc="-1" strike="noStrike" baseline="-25000">
                <a:solidFill>
                  <a:srgbClr val="ff3300"/>
                </a:solidFill>
                <a:latin typeface="Times New Roman"/>
                <a:ea typeface="Times New Roman"/>
              </a:rPr>
              <a:t>b</a:t>
            </a:r>
            <a:r>
              <a:rPr b="1" lang="es-MX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donde la </a:t>
            </a:r>
            <a:r>
              <a:rPr b="1" i="1" lang="es-MX" sz="20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y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á en la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nidades </a:t>
            </a:r>
            <a:r>
              <a:rPr b="0" i="1" lang="es-MX" sz="20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u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la </a:t>
            </a:r>
            <a:r>
              <a:rPr b="1" i="1" lang="es-MX" sz="20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á en la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nidades </a:t>
            </a:r>
            <a:r>
              <a:rPr b="0" i="1" lang="es-MX" sz="20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u´</a:t>
            </a:r>
            <a:r>
              <a:rPr b="0" lang="es-MX" sz="20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SCRIBIENDO LA ECUACIÓN DEL MODELO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533520" y="1676520"/>
            <a:ext cx="7848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OBTENER LOS VALORES DE LA PENDIENTE Y DE LA ORDENADA AL ORIGEN, PODEMOS ENTONCES ESCRIBIR LA ECUACIÓN DE LA RECTA EN LA FORMA USU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s-MX" sz="20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VD =    pendiente   VI  +  ord. al ori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ff3300"/>
                </a:solidFill>
                <a:latin typeface="Times New Roman"/>
              </a:rPr>
              <a:t>y = (m </a:t>
            </a:r>
            <a:r>
              <a:rPr b="1" lang="es-MX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± S</a:t>
            </a:r>
            <a:r>
              <a:rPr b="1" lang="es-MX" sz="2800" spc="-1" strike="noStrike" baseline="-25000">
                <a:solidFill>
                  <a:srgbClr val="ff3300"/>
                </a:solidFill>
                <a:latin typeface="Times New Roman"/>
                <a:ea typeface="Times New Roman"/>
              </a:rPr>
              <a:t>m</a:t>
            </a:r>
            <a:r>
              <a:rPr b="1" lang="es-MX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 x + (b ± S</a:t>
            </a:r>
            <a:r>
              <a:rPr b="1" lang="es-MX" sz="2800" spc="-1" strike="noStrike" baseline="-25000">
                <a:solidFill>
                  <a:srgbClr val="ff3300"/>
                </a:solidFill>
                <a:latin typeface="Times New Roman"/>
                <a:ea typeface="Times New Roman"/>
              </a:rPr>
              <a:t>b</a:t>
            </a:r>
            <a:r>
              <a:rPr b="1" lang="es-MX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donde la </a:t>
            </a:r>
            <a:r>
              <a:rPr b="1" i="1" lang="es-MX" sz="20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y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á en la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nidades </a:t>
            </a:r>
            <a:r>
              <a:rPr b="0" i="1" lang="es-MX" sz="20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u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la </a:t>
            </a:r>
            <a:r>
              <a:rPr b="1" i="1" lang="es-MX" sz="20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á en la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nidades </a:t>
            </a:r>
            <a:r>
              <a:rPr b="0" i="1" lang="es-MX" sz="20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u´</a:t>
            </a:r>
            <a:r>
              <a:rPr b="0" lang="es-MX" sz="20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reportar de esta manera, conocemos la ecuación del modelo con un 68% de probabilidad asumiendo que los resultados se distriubuyen normalment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533520" y="1676520"/>
            <a:ext cx="784836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 TOMARON DIFERENTES VALORES DE </a:t>
            </a:r>
            <a:r>
              <a:rPr b="1" i="1" lang="es-MX" sz="1800" spc="-1" strike="noStrike">
                <a:solidFill>
                  <a:srgbClr val="3399ff"/>
                </a:solidFill>
                <a:latin typeface="Times New Roman"/>
              </a:rPr>
              <a:t>MAS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MX" sz="1800" spc="-1" strike="noStrike">
                <a:solidFill>
                  <a:srgbClr val="cc00cc"/>
                </a:solidFill>
                <a:latin typeface="Times New Roman"/>
              </a:rPr>
              <a:t>VOLUMEN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DE AGUA PARA </a:t>
            </a:r>
            <a:r>
              <a:rPr b="1" lang="es-MX" sz="1800" spc="-1" strike="noStrike">
                <a:solidFill>
                  <a:srgbClr val="330099"/>
                </a:solidFill>
                <a:latin typeface="Times New Roman"/>
              </a:rPr>
              <a:t>DETERMINAR SU RELACIÓN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, Y </a:t>
            </a:r>
            <a:r>
              <a:rPr b="1" lang="es-MX" sz="1800" spc="-1" strike="noStrike">
                <a:solidFill>
                  <a:srgbClr val="330099"/>
                </a:solidFill>
                <a:latin typeface="Times New Roman"/>
              </a:rPr>
              <a:t>LA DENSIDAD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DEL AGUA. </a:t>
            </a:r>
            <a:r>
              <a:rPr b="0" lang="es-MX" sz="1800" spc="-1" strike="noStrike">
                <a:solidFill>
                  <a:srgbClr val="0000ff"/>
                </a:solidFill>
                <a:latin typeface="Times New Roman"/>
              </a:rPr>
              <a:t>SE CONTROLÓ LA MAS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OBTENIÉNDOSE LOS SIGUIENTES RESULT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533520" y="1676520"/>
            <a:ext cx="784836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 TOMARON DIFERENTES VALORES DE </a:t>
            </a:r>
            <a:r>
              <a:rPr b="1" i="1" lang="es-MX" sz="1800" spc="-1" strike="noStrike">
                <a:solidFill>
                  <a:srgbClr val="3399ff"/>
                </a:solidFill>
                <a:latin typeface="Times New Roman"/>
              </a:rPr>
              <a:t>MAS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MX" sz="1800" spc="-1" strike="noStrike">
                <a:solidFill>
                  <a:srgbClr val="cc00cc"/>
                </a:solidFill>
                <a:latin typeface="Times New Roman"/>
              </a:rPr>
              <a:t>VOLUMEN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DE AGUA PARA </a:t>
            </a:r>
            <a:r>
              <a:rPr b="1" lang="es-MX" sz="1800" spc="-1" strike="noStrike">
                <a:solidFill>
                  <a:srgbClr val="330099"/>
                </a:solidFill>
                <a:latin typeface="Times New Roman"/>
              </a:rPr>
              <a:t>DETERMINAR SU RELACIÓN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, Y </a:t>
            </a:r>
            <a:r>
              <a:rPr b="1" lang="es-MX" sz="1800" spc="-1" strike="noStrike">
                <a:solidFill>
                  <a:srgbClr val="330099"/>
                </a:solidFill>
                <a:latin typeface="Times New Roman"/>
              </a:rPr>
              <a:t>LA DENSIDAD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DEL AGUA. </a:t>
            </a:r>
            <a:r>
              <a:rPr b="0" lang="es-MX" sz="1800" spc="-1" strike="noStrike">
                <a:solidFill>
                  <a:srgbClr val="0000ff"/>
                </a:solidFill>
                <a:latin typeface="Times New Roman"/>
              </a:rPr>
              <a:t>SE CONTROLÓ LA MAS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OBTENIÉNDOSE LOS SIGUIENTES RESULT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2971800"/>
          <a:ext cx="3352680" cy="3352680"/>
        </p:xfrm>
        <a:graphic>
          <a:graphicData uri="http://schemas.openxmlformats.org/drawingml/2006/table">
            <a:tbl>
              <a:tblPr/>
              <a:tblGrid>
                <a:gridCol w="1117440"/>
                <a:gridCol w="1117800"/>
                <a:gridCol w="1117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/C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,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 0.1, 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, ± 0.6, 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533520" y="1676520"/>
            <a:ext cx="784836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 TOMARON DIFERENTES VALORES DE </a:t>
            </a:r>
            <a:r>
              <a:rPr b="1" i="1" lang="es-MX" sz="1800" spc="-1" strike="noStrike">
                <a:solidFill>
                  <a:srgbClr val="3399ff"/>
                </a:solidFill>
                <a:latin typeface="Times New Roman"/>
              </a:rPr>
              <a:t>MAS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MX" sz="1800" spc="-1" strike="noStrike">
                <a:solidFill>
                  <a:srgbClr val="cc00cc"/>
                </a:solidFill>
                <a:latin typeface="Times New Roman"/>
              </a:rPr>
              <a:t>VOLUMEN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DE AGUA PARA </a:t>
            </a:r>
            <a:r>
              <a:rPr b="1" lang="es-MX" sz="1800" spc="-1" strike="noStrike">
                <a:solidFill>
                  <a:srgbClr val="330099"/>
                </a:solidFill>
                <a:latin typeface="Times New Roman"/>
              </a:rPr>
              <a:t>DETERMINAR SU RELACIÓN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, Y </a:t>
            </a:r>
            <a:r>
              <a:rPr b="1" lang="es-MX" sz="1800" spc="-1" strike="noStrike">
                <a:solidFill>
                  <a:srgbClr val="330099"/>
                </a:solidFill>
                <a:latin typeface="Times New Roman"/>
              </a:rPr>
              <a:t>LA DENSIDAD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DEL AGUA. </a:t>
            </a:r>
            <a:r>
              <a:rPr b="0" lang="es-MX" sz="1800" spc="-1" strike="noStrike">
                <a:solidFill>
                  <a:srgbClr val="0000ff"/>
                </a:solidFill>
                <a:latin typeface="Times New Roman"/>
              </a:rPr>
              <a:t>SE CONTROLÓ LA MAS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OBTENIÉNDOSE LOS SIGUIENTES RESULT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62120" y="2971800"/>
          <a:ext cx="3352680" cy="3352680"/>
        </p:xfrm>
        <a:graphic>
          <a:graphicData uri="http://schemas.openxmlformats.org/drawingml/2006/table">
            <a:tbl>
              <a:tblPr/>
              <a:tblGrid>
                <a:gridCol w="1117440"/>
                <a:gridCol w="1117800"/>
                <a:gridCol w="1117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/C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,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 0.1, 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, ± 0.6, 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 Box 55"/>
          <p:cNvSpPr/>
          <p:nvPr/>
        </p:nvSpPr>
        <p:spPr>
          <a:xfrm>
            <a:off x="4572000" y="3200400"/>
            <a:ext cx="41911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ff"/>
                </a:solidFill>
                <a:latin typeface="Times New Roman"/>
              </a:rPr>
              <a:t>Se desea encontrar la ecuación que ajusta estos datos utilizando el método de los Mínimos Cuadrado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33ff"/>
                </a:solidFill>
                <a:latin typeface="Times New Roman"/>
              </a:rPr>
              <a:t>Determinar el valor de la densidad del a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533520" y="1676520"/>
            <a:ext cx="7848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tilizando una hoja de cálculo ob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533520" y="1676520"/>
            <a:ext cx="784836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tilizando una hoja de cálculo ob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pendiente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cc0000"/>
                </a:solidFill>
                <a:latin typeface="Times New Roman"/>
              </a:rPr>
              <a:t>m = 1.000 ± 0.005 g/m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9933ff"/>
                </a:solidFill>
                <a:uFillTx/>
                <a:latin typeface="Times New Roman"/>
              </a:rPr>
              <a:t>Método </a:t>
            </a:r>
            <a:r>
              <a:rPr b="1" i="1" lang="es-MX" sz="2800" spc="-1" strike="noStrike" u="sng">
                <a:solidFill>
                  <a:srgbClr val="9933ff"/>
                </a:solidFill>
                <a:uFillTx/>
                <a:latin typeface="Times New Roman"/>
              </a:rPr>
              <a:t>de los Mínimos Cuadrados</a:t>
            </a:r>
            <a:br>
              <a:rPr sz="28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bsana limitaciones del método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99"/>
                </a:solidFill>
                <a:latin typeface="Times New Roman"/>
              </a:rPr>
              <a:t>Ventajas adi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0099"/>
                </a:solidFill>
                <a:latin typeface="Times New Roman"/>
              </a:rPr>
              <a:t>Es objetivo, sólo depende de los resultados experiment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0099"/>
                </a:solidFill>
                <a:latin typeface="Times New Roman"/>
              </a:rPr>
              <a:t>Es reproducible, proporciona l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</a:rPr>
              <a:t>a</a:t>
            </a:r>
            <a:r>
              <a:rPr b="0" lang="es-ES" sz="2000" spc="-1" strike="noStrike">
                <a:solidFill>
                  <a:srgbClr val="330099"/>
                </a:solidFill>
                <a:latin typeface="Times New Roman"/>
              </a:rPr>
              <a:t> mism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</a:rPr>
              <a:t>a ecuación</a:t>
            </a:r>
            <a:r>
              <a:rPr b="0" lang="es-ES" sz="2000" spc="-1" strike="noStrike">
                <a:solidFill>
                  <a:srgbClr val="330099"/>
                </a:solidFill>
                <a:latin typeface="Times New Roman"/>
              </a:rPr>
              <a:t> no importa quién realice el análisis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99"/>
                </a:solidFill>
                <a:latin typeface="Times New Roman"/>
              </a:rPr>
              <a:t>Proporciona una estimación probabilística de la ecuación que representa a unos datos experiment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99"/>
                </a:solidFill>
                <a:latin typeface="Times New Roman"/>
              </a:rPr>
              <a:t>Proporciona intervalos pequeños de err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</a:rPr>
              <a:t>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ff"/>
                </a:solidFill>
                <a:uFillTx/>
                <a:latin typeface="Times New Roman"/>
              </a:rPr>
              <a:t>Sólo sirve para ajustar modelos lin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Times New Roman"/>
              </a:rPr>
              <a:t>Requiere tener, al menos, diez mediciones bajo las mismas circunstancias experiment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Times New Roman"/>
              </a:rPr>
              <a:t>Tales resultados deben estar descritos por una distribución de probabilidad conocida. La más común es la distribución normal o gaussi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Times New Roman"/>
              </a:rPr>
              <a:t>Se requiere de algún equipo de cálculo, de lo contrario, es muy engorr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533520" y="1676520"/>
            <a:ext cx="7848360" cy="26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tilizando una hoja de cálculo ob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pendiente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m = 1.000 ± 0.005 g/ml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ordenada al origen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cc0000"/>
                </a:solidFill>
                <a:latin typeface="Times New Roman"/>
              </a:rPr>
              <a:t>b = 0.032 ± 0.167 g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33520" y="1676520"/>
            <a:ext cx="78483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tilizando una hoja de cálculo ob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pendiente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m = 1.000 ± 0.005 g/ml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ordenada al origen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b = 0.032 ± 0.167 g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ecuación será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ff"/>
                </a:solidFill>
                <a:latin typeface="Times New Roman"/>
              </a:rPr>
              <a:t>M = (1.000</a:t>
            </a:r>
            <a:r>
              <a:rPr b="1" lang="es-MX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005</a:t>
            </a:r>
            <a:r>
              <a:rPr b="1" lang="es-MX" sz="2000" spc="-1" strike="noStrike">
                <a:solidFill>
                  <a:srgbClr val="0000ff"/>
                </a:solidFill>
                <a:latin typeface="Times New Roman"/>
              </a:rPr>
              <a:t>) V + (0.0</a:t>
            </a:r>
            <a:r>
              <a:rPr b="1" lang="es-MX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2</a:t>
            </a:r>
            <a:r>
              <a:rPr b="1" lang="es-MX" sz="2000" spc="-1" strike="noStrike">
                <a:solidFill>
                  <a:srgbClr val="0000ff"/>
                </a:solidFill>
                <a:latin typeface="Times New Roman"/>
              </a:rPr>
              <a:t>), </a:t>
            </a:r>
            <a:r>
              <a:rPr b="1" lang="es-MX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ff"/>
                </a:solidFill>
                <a:latin typeface="Times New Roman"/>
              </a:rPr>
              <a:t>donde M está en g, y V está en m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533520" y="1676520"/>
            <a:ext cx="7848360" cy="37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tilizando una hoja de cálculo ob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pendiente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m = 1.000 ± 0.005 g/ml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ordenada al origen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b = 0.032 ± 0.167 g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ecuación será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M = (1.000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005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) V + (0.0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2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), 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dondeM está en g, y V está en m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mparando los modelos teórico y experimental, observamos que la densidad es el inverso de la pendiente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 = 1/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533520" y="1676520"/>
            <a:ext cx="784836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tilizando una hoja de cálculo ob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pendiente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m = 1.000 ± 0.005 g/ml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ordenada al origen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b = 0.032 ± 0.167 g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ecuación será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M = (1.000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005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) V + (0.0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2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), 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dondeM está en g, y V está en m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mparando los modelos teórico y experimental, sabemos que la densidad es el inverso de la pendiente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 = 1/m. Calculando ob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4"/>
              <p:cNvSpPr txBox="1"/>
              <p:nvPr/>
            </p:nvSpPr>
            <p:spPr>
              <a:xfrm>
                <a:off x="838080" y="4943520"/>
                <a:ext cx="29718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den>
                        </m:f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x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y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p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</m:acc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533520" y="1676520"/>
            <a:ext cx="784836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tilizando una hoja de cálculo ob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pendiente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m = 1.000 ± 0.005 g/ml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ordenada al origen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b = 0.032 ± 0.167 g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ecuación será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M = (1.000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005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) V + (0.0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2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), 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dondeM está en g, y V está en m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mparando los modelos teórico y experimental, sabemos que la densidad es el inverso de la pendiente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 = 1/m. Calculando ob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838080" y="4943520"/>
                <a:ext cx="29718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den>
                        </m:f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x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y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p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</m:acc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5"/>
              <p:cNvSpPr txBox="1"/>
              <p:nvPr/>
            </p:nvSpPr>
            <p:spPr>
              <a:xfrm>
                <a:off x="4032360" y="4878360"/>
                <a:ext cx="38923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0</m:t>
                                        </m:r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05</m:t>
                                        </m:r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533520" y="1676520"/>
            <a:ext cx="7848360" cy="52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tilizando una hoja de cálculo ob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pendiente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m = 1.000 ± 0.005 g/ml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ordenada al origen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b = 0.032 ± 0.167 g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ecuación será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M = (1.000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005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) V + (0.0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2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), 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dondeM está en g, y V está en m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mparando los modelos teórico y experimental, sabemos que la densidad es el inverso de la pendiente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 = 1/m. Calculando ob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í pues, la densidad será: </a:t>
            </a:r>
            <a:r>
              <a:rPr b="1" lang="es-MX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ρ = </a:t>
            </a:r>
            <a:r>
              <a:rPr b="1" lang="es-MX" sz="2400" spc="-1" strike="noStrike">
                <a:solidFill>
                  <a:srgbClr val="3399ff"/>
                </a:solidFill>
                <a:latin typeface="Times New Roman"/>
              </a:rPr>
              <a:t>1.000</a:t>
            </a:r>
            <a:r>
              <a:rPr b="1" lang="es-MX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± 0.005</a:t>
            </a:r>
            <a:r>
              <a:rPr b="1" lang="es-MX" sz="2400" spc="-1" strike="noStrike">
                <a:solidFill>
                  <a:srgbClr val="3399ff"/>
                </a:solidFill>
                <a:latin typeface="Times New Roman"/>
              </a:rPr>
              <a:t> g/ml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838080" y="4943520"/>
                <a:ext cx="29718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den>
                        </m:f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x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y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p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</m:acc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5"/>
              <p:cNvSpPr txBox="1"/>
              <p:nvPr/>
            </p:nvSpPr>
            <p:spPr>
              <a:xfrm>
                <a:off x="4032360" y="4878360"/>
                <a:ext cx="38923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0</m:t>
                                        </m:r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05</m:t>
                                        </m:r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33ff"/>
                </a:solidFill>
                <a:latin typeface="Times New Roman"/>
              </a:rPr>
              <a:t>Resumie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Método 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MÉTODO SUBJETIVO, 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PROPORCIONA ERRORES 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GRANDE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 Y 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ES UNA ESTIMACIÓN 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PESIMISTA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SON NECESARIAS MENOS DE DIEZ MEDI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NO ES REPRODUC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NO ES NECESARIO TENER UNA CALCULADORA O COMPUTADO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PERMITE DECIDIR SI SE HACE UN EXPERIMENTO Y UN ANÁLISIS MÁS CUIDAD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Mínimos cuad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MÉTODO OBJETIVO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PROPORCIONA ERRORES 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PEQUEÑO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 ES UNA ESTIMACIÓN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 PROBABILÍSTIC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SE REQUIER DE, AL MENOS, DIEZ MEDICIONES BAJO LAS MISMAS CIRCUNSTANCIAS EXPERIMENT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DISTRIBUCIÓN DE PROBABILIDAD CONOCIDA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ES REPRODUCIBLE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SE NECESITA ALGÚN APARATO PARA CALCULAR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finiciones Prelimin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método de los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mínimos cuadrado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nos permite </a:t>
            </a:r>
            <a:r>
              <a:rPr b="1" i="1" lang="es-MX" sz="3200" spc="-1" strike="noStrike">
                <a:solidFill>
                  <a:srgbClr val="0000ff"/>
                </a:solidFill>
                <a:latin typeface="Times New Roman"/>
              </a:rPr>
              <a:t>encontrar la ecuación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de una</a:t>
            </a:r>
            <a:r>
              <a:rPr b="1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s-MX" sz="3200" spc="-1" strike="noStrike" u="sng">
                <a:solidFill>
                  <a:srgbClr val="0000ff"/>
                </a:solidFill>
                <a:uFillTx/>
                <a:latin typeface="Times New Roman"/>
              </a:rPr>
              <a:t>recta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s-MX" sz="3200" spc="-1" strike="noStrike">
                <a:solidFill>
                  <a:srgbClr val="3399ff"/>
                </a:solidFill>
                <a:latin typeface="Times New Roman"/>
              </a:rPr>
              <a:t>partir de los datos experimentale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 decir, utilizando solamente las mediciones experimentales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se obtendrá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MX" sz="3200" spc="-1" strike="noStrike">
                <a:solidFill>
                  <a:srgbClr val="cc0000"/>
                </a:solidFill>
                <a:latin typeface="Times New Roman"/>
              </a:rPr>
              <a:t>la pendient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i="1" lang="es-MX" sz="3200" spc="-1" strike="noStrike">
                <a:solidFill>
                  <a:srgbClr val="cc0000"/>
                </a:solidFill>
                <a:latin typeface="Times New Roman"/>
              </a:rPr>
              <a:t>la ordenada al origen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de la recta que mejor se ajuste a tales med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finiciones Prelimin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99ff"/>
                </a:solidFill>
                <a:latin typeface="Times New Roman"/>
              </a:rPr>
              <a:t>ASÍ PUES,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MX" sz="3200" spc="-1" strike="noStrike">
                <a:solidFill>
                  <a:srgbClr val="ff3300"/>
                </a:solidFill>
                <a:latin typeface="Times New Roman"/>
              </a:rPr>
              <a:t>SOLAMENTE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 NOS SIRVE PARA AJUSTAR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1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cc0000"/>
                </a:solidFill>
                <a:latin typeface="Times New Roman"/>
              </a:rPr>
              <a:t>MODELOS LIN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33ff"/>
                </a:solidFill>
                <a:latin typeface="Times New Roman"/>
              </a:rPr>
              <a:t>SI ESTE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es-MX" sz="3200" spc="-1" strike="noStrike">
                <a:solidFill>
                  <a:srgbClr val="9933ff"/>
                </a:solidFill>
                <a:latin typeface="Times New Roman"/>
              </a:rPr>
              <a:t> ES EL CAS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MX" sz="3200" spc="-1" strike="noStrike">
                <a:solidFill>
                  <a:srgbClr val="cc00cc"/>
                </a:solidFill>
                <a:latin typeface="Times New Roman"/>
              </a:rPr>
              <a:t>SE DEBE BUSCAR OTRO MÉTODO DE AJU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finiciones Prelimin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El método de los mínimos cuadrados se calcula en base al sigu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0000"/>
                </a:solidFill>
                <a:latin typeface="Times New Roman"/>
              </a:rPr>
              <a:t>CRITE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0099"/>
                </a:solidFill>
                <a:latin typeface="Times New Roman"/>
              </a:rPr>
              <a:t>La distancia del punto experimental a la “mejor recta” es mín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GRÁFIC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GRÁFIC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2592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MX" sz="2800" spc="-1" strike="noStrike">
                <a:solidFill>
                  <a:srgbClr val="cc0000"/>
                </a:solidFill>
                <a:latin typeface="Times New Roman"/>
              </a:rPr>
              <a:t>DIBUJAMO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3300"/>
                </a:solidFill>
                <a:latin typeface="Times New Roman"/>
              </a:rPr>
              <a:t>UNOS EJES DE COORDE-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4"/>
          <p:cNvSpPr/>
          <p:nvPr/>
        </p:nvSpPr>
        <p:spPr>
          <a:xfrm>
            <a:off x="3200400" y="198108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3048120" y="617220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971800" y="61722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8153280" y="62024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2971800" y="19051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GRÁFIC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560" y="1981080"/>
            <a:ext cx="302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MX" sz="2800" spc="-1" strike="noStrike">
                <a:solidFill>
                  <a:srgbClr val="cc0000"/>
                </a:solidFill>
                <a:latin typeface="Times New Roman"/>
              </a:rPr>
              <a:t>GRAFICAMO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3300"/>
                </a:solidFill>
                <a:latin typeface="Times New Roman"/>
              </a:rPr>
              <a:t>LOS PUNTOS EXPERIMEN-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200400" y="198108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3048120" y="617220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971800" y="61722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267080" y="44956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352680" y="50292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038480" y="5257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876920" y="4800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105520" y="42670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5638680" y="4343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58672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6477120" y="39625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6705720" y="34290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7315200" y="3505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7467480" y="3048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8153280" y="62024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2971800" y="19051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FISICA</dc:creator>
  <dc:description/>
  <dc:language>en-US</dc:language>
  <cp:lastModifiedBy>Colossus User</cp:lastModifiedBy>
  <dcterms:modified xsi:type="dcterms:W3CDTF">2010-10-26T12:17:46Z</dcterms:modified>
  <cp:revision>86</cp:revision>
  <dc:subject/>
  <dc:title>Estadística</dc:title>
</cp:coreProperties>
</file>